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6B98E-22FE-4F29-9C2E-4FAAE4B83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4E36E-B538-425C-9E75-6F73C903A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9B7A8D-DE0C-4C2D-B9E5-A0E3DD8AB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1C8CE1-CDF3-46D7-AEEF-B6EB5A8D2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72AED6-312F-40FC-B7FA-A39010B01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FD9CE5-8E8C-4DE1-B0C6-C26101222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73B71C-A12E-403D-8747-F1475CE96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807EB5-F9A7-439D-8DF6-4A8B68576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ECF148-AC91-4ECA-9C9A-44000CEC0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184B4F-62E9-401D-A852-291DE9EE5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DED53A-46F1-4DCC-A209-D88CB2517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558FC7-9F82-4194-AC8A-DBDAD28D8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17B33-DE8D-4014-933B-4B3679EE0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983D3D-89EB-482D-BA25-304D81B9B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399775-6057-48C8-94A0-E8A17D705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1BEEC1-8F23-411F-A07B-FC9297AC3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3C32EB-7A56-4A0C-AE20-1B0A5D340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E45E44-8945-4332-A3B4-F6BB4DE78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913D74-F1F8-4A24-970A-C5AD05A0E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5B97EB-90C2-46BC-AB28-08C66A95C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4BBE67-7583-4524-8E66-F88CDA54E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3D051F-7F89-4EAE-A022-17AE2D9E0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05F64E-E52C-4F31-9EF6-E286956C7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7D112-B711-4092-9C27-68072DFC7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CEC8F0-FAD7-4F9B-B7D8-56A6AA3FC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6D735D-4CEE-407D-981C-B77DBDF00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3D6E6D-B291-435B-B398-48C67B096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437A70-90E7-48B1-85B5-3671F4B73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5C5A16-9752-4162-983A-D487AC321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916B51-2C6D-461D-95B8-9AA330CA0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305A31-AE0F-4999-B4EB-40F6E2288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851AA4-7543-442D-BC95-CF27F549F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0F1E10-5016-4A64-A282-F1ED494F3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77A6DA-0C43-49A1-B8E6-55464323B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75783-3293-497A-96EF-AC4C774F5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DD75F1-E346-431C-952F-3115B9981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78FED7-9247-4E21-AE0B-D7DF98F8F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7F1066-8C5F-4A84-8179-7952C48D9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606CA8-01F3-495F-AAE9-9418FF7F6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F706DE-C350-4703-BDC2-355C8EF21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4A1715-A268-451A-8CB0-D91E4E462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EC5DBF-4397-40E6-80DA-712A75FBD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472ACE-2FF9-40F7-BC94-1FD9B5E23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E7E350-B7D8-4315-A867-ED6F28C0C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89568D-B251-4052-9E49-AC10DDB00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EDA66-6792-4E2C-95F1-558D03F5B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93F815-5465-4438-A572-83A6C19D8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F0AF98-DF80-4DE3-AC35-AC08F45D0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73F3AD-CA9F-4906-962F-E34765715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25AA93-F673-42C9-AACD-AE65F7CDE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AB9809-E2EA-41AA-A1C9-8903E0F72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275E9FA-6BAC-434D-80DB-E6F4CA554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DDF0B4C-7887-4DD2-96C4-7CB8381BA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A55B26B-A834-41E8-911D-BCF200A94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E9A417E-4A9A-46E2-9C6E-CA8B789C4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C5B416C-7E4B-49B7-9343-09C3B0550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830E4-BC9D-484C-9171-34C26DB94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A207757-5E21-47EB-8C40-DC4B1F171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CC6A49C-0441-4710-9C33-F805ADCD8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8E6FB01-6266-4FBA-8911-F9A505B40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C9EB808-116F-463C-A025-CD59C1CF9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D0966EF-26A5-461E-B999-8DEEC3CA6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2C53C50-A282-4292-9CB0-22FC851E0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B6A01EE-7D68-4021-93F8-89E30737C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AB824A2-FF5D-4379-B2B0-EA7F0B5D7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606EAA2-7066-41D1-A907-D321BACCB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71E8E71-0AA6-474E-B586-AF0835A0D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FA078-D4FE-4699-8527-785462A4A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2D91386-73A8-413E-9733-2962C70E7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6482756-7172-4EA0-8A7A-BC3E56596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D85072D-BDA3-4AED-A8B7-07088A25B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65E5B46-6F75-4A39-90FA-1E1707BC4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2A5F2F3-BE79-4A0C-A2A0-0F0B3615E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6C7C9CE-3152-4747-A149-73140A743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0ADB181-31BA-4927-BFD1-3EB4CCED6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D8E852B-B519-4235-8E68-30F4F4E42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F88DE45-C428-4CEE-B540-203EC0943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F4FC989-2399-4B4D-A901-7B87B4342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426F8-257B-4E45-A9C5-57FFB1511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6BAA857-D521-4B1B-A888-835A8AA9C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947E80F-DF10-4B23-97BC-CA7B0F1BD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AD28F80-3994-4BB4-93DC-F7D3CE9AD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C6BDAFB-4B72-456C-B917-1CE96C792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BE02347-AA85-4181-8D7D-9C722F373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5D425E6-972C-49DC-BEEC-844C0AA6D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EAE0A9C-82C8-4806-AF66-F401A33ED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A23FD04-790D-494A-8B9C-4AFA67247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7436DD9-4DE3-495B-B0C8-42BD190BD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85CF148-220B-4CCB-97E9-6A607E0D3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69B8E-0FB3-4961-B722-4151B7287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7288ED1-EDCB-4402-830A-11AE451F9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5687079-6357-45DE-902D-16B12EFFA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3B334AC-5180-47F6-93C3-95B0FFBB7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13EEEA9-9E7D-4738-B311-2DFBB847A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79DC77D-809D-464D-9E48-CB73AA41D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B291A3B-052F-40CD-9004-0F7B803F3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F0AD458-E2AF-45CB-89B2-1B236597F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7F20A15-78DD-407E-BA58-5F8E28AB6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25DFCBA-4795-42AD-A303-C222C4AE0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8E2AA5C-BBD4-425D-84BF-CB75067D7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85932-AF33-4D68-B04D-9DF49A27F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2383AC1-24E1-4EBE-B9ED-1826F4948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8E3F4DC-EECA-46AC-B38B-E0F77E045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CD49F55-9B9D-46F9-9B30-7470F879D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B7D53C6-94D5-4EBE-82BB-4D035FA14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4B166A4-2490-46D1-ADFA-7FE30FA71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BDB1DD2-B8F8-4006-A0DE-7ACA34F15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FFBAE69-C17B-40C7-92E4-27A489129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4AF2DAF-D72E-4511-9E3D-F3BFD1F92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676AD49-1722-48BA-BE9F-54010B8AB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835BE47-DB31-49E6-AA94-A1880E122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80209-74D8-45AC-A5E0-E9161E496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88EF7-B302-4E1F-8083-1C24BFDBA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99BE663-5D76-4169-90CE-1286F4618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4302478-30FA-4F59-965A-2320F1053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28B3AC4-A4E8-4EB3-886C-82ACF58A0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9BB20CB-B3D5-4C72-A0DE-4FCB1BBC8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E348F98-8527-4DD4-A54A-0E96A7B82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220830E-EF90-4848-BC64-32A4B9705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FDB66DB-0ECC-4CC4-B82B-D11B60D0C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513DAD6-82CD-4CF2-B216-F35E82679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F3DFA40-DB5F-4771-BA8F-78AE4FD03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FEEB4DB-9736-4A2F-BE42-0F55BFE0C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475C5-CF38-4B7C-9DB8-2842ED284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15EC735-BF8C-415B-953C-176FA1256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D49863C-D9C7-4ECC-AE3D-E29BA014C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4A770A3-9A43-4FED-998E-D2CCBD3E1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739CB06-9509-4A88-AA55-216F412EE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9A0ADF0-385B-43D4-BED8-A9304C18B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78531D0-9C01-4B63-874F-15DD8FEDD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DD84EEE-ED23-43A0-96E4-7E09300F1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167C284-3955-405A-8F6E-5AA8FA853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5E15B40-A8E5-4E89-8E50-696E30FB4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A122069-4B4E-461C-B4F2-46BC4ECA4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5BDD4-2433-4B7B-B411-35E27E86A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831057F-F0FF-402D-A1A1-5FBD4CA27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35D2A6A-83E0-4C88-B30C-6AAF769EF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7207E67-BE7A-419F-9844-70E0E31B8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4EED77A-8B2D-4A34-85F6-C0FCB0C6E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E48D3F2-BED1-48E1-ABD7-9DBB1E372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2135DB7-84A7-4387-81F9-470B5913A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1FD011B-486E-47BA-B45B-603C7A184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458E5A3-A4E4-409E-BE16-CA470CA72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DAEAD14-BA09-42CE-8072-7D0ACF587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2D2383B-E6BF-4888-ABF7-A361A33E3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064A0-D74D-420A-9BA7-34D832D57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403D5A6-BB1E-4EE1-8FBF-DE08FAD12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0CC7088-3C21-43C2-AE73-866B01C20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499A37F-F3AF-4FB3-92B6-987CFD302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EECEFBF-516B-4338-B9D0-6895FCB61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DA38CD3-A25F-4E1C-B445-8752789AA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97A136E-C4D2-4D8C-B851-379BF0D34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0C3B784-AAF6-4DD3-ADD6-8A21EA17A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2810B1E-B91C-4666-8EE3-E3269DDBC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371774E-5C91-4203-8430-21BC303EB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217D005-6E51-4F6A-9FC8-D2F04D865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5D2DA-355F-4930-9119-742D3386F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1ED851A-3829-4BA5-BD7F-4429A9FDD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0343CD4-CBDB-48FD-A81D-E6A8068DC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DCB8F77-5CE5-40C3-8AAF-F7C9A797C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9E77CEE-B482-4DB0-B009-16A166255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ED63809-FA9A-4DD7-B491-B052D1A12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B2B81FC-A80A-4C7D-BE67-78572F456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F985E7E-F4FC-4630-9D8D-922397A6C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16C900F-B417-4313-A5F0-65A10563D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9020F68-AB2D-41B0-831A-774538828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0694129-FE31-45E0-BBDF-678DC2D4E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73EDDA-8FD3-41A5-BB0B-2587BDE17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6D17DFE-B883-414D-B547-E11AB7F20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B904EB4-0B52-45D6-B0B5-339BEA88F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9DD3293-C515-4F26-8C19-52D02E7E5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B76E51-12DD-466E-887E-DD373C071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821C16-E9A4-408A-9038-CD235C9F2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033D80-7A8C-4AAA-A636-27E0629DD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357728-BA07-470C-AB74-ACEEF2816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E50D7-DCDA-46CE-A1B7-75FB8A66B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C96624-9056-451A-9F04-DAA16257A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38BC59-3868-4ED8-B7AA-C15C3922E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158D61-57F3-4878-AA95-5E2AE0AB9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C46010-6043-4CC1-BDBB-DB8754181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151182-8FF6-4B3D-A2DF-F4EDA4027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F37423-6126-48DD-A5E7-4E9D610AF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177FDB-0A2B-4C46-AC5A-A121A1252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EB1D7F-6520-4900-B7A3-EBF9BD5E4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28E669-4D36-47E3-96D1-8C08B62B3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B4DF03-8F85-44DB-8C90-C149F2EAE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3CA63-67D3-4F38-9600-893E975A8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587315-4815-4D29-8F70-F7DB935A8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39560A-FEFB-42AE-8E5B-D0188185D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D320F8-F2FC-472F-81FA-371F26CB5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463D3D-DB7B-4D40-9FB8-15E0610FF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460AB7-72A2-4B3A-AD7E-70A17DF89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482C18-753A-4189-98E3-E4372675C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1BA7A8-2ECC-40D6-BAE6-4FB6681CC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2A418E-B45E-4B05-B7AD-EE8C0250C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E5AA6E-A3BA-4843-BA47-7E548AB47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6A0767-D103-4DC9-A05D-048DF0007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F61DC-BA53-4B08-82D9-263AC5C07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A12265-4A23-46FB-9744-69A774214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CADBD8-6F0D-49DB-84BE-82F863F65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7C7CDB-24DF-4960-8AC0-B02E148CA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6849FD-C35B-4E3A-8CC5-1C80C8E81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8F150A-7462-4880-966F-5AB94DD95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68CDFF-BFEC-4E65-9093-327BD628D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B3BF1C-452E-4F7B-8A25-FA7D04E69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93C4C8-15E3-49EF-ADB0-616290FB3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5CE600-A9D3-4C3B-AC44-5340D90DB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2D940C-D78E-4745-B2CF-F52300BA1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C3490-1631-443B-B053-CB22DB4A6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AB5449-7220-4EE2-B3AE-5B908E46C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162F8C-E093-4EBA-9266-0489E4F95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D63F39-2DE6-4E4D-8C19-AEEE6354F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7BE6E4-9572-4351-B8F9-2DB4C1BBF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7CA2FD-A186-4306-B364-585811FF6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B4608D-B729-4742-8500-38FA2C33D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CCF9A2-BDE8-49CD-96B4-206DD72CD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DEAE33-C6B7-4A19-B3D3-29BC714F4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7077CD-5F26-441A-9D5F-4703E2A17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348532-1D9C-430E-A519-FB5F2492F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65BE6-C87D-4419-AF4F-B18F54D84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02F5BF-648C-4976-A944-BD9E9610C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E9BCA4-9058-465E-8314-22AC15BF2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BA7830-1B12-41C8-846A-108237B02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A55EAF-9E93-463C-A23F-BD7151422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48C0C0-9802-4D5D-B87D-DD2F562E9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E7D2D4-8C9A-425B-8C34-66740201C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F98827-69DB-4D68-84E9-DE02F9844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BA82F6-E707-4B52-AC69-D1FA8B081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F8BD8D-207C-479E-A745-5B7ABD669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4CFED8-D3E1-4C1B-81B0-00A75AE64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16B33-D371-42C1-8424-1806A266D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3A513D-079D-4859-A9ED-8F75CCC0A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BCDB84-A9A4-4F70-92C2-9970F3B78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50AC1B-5CA1-40F5-A999-BDF03E7F7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0741E0-F55E-42C4-ABC6-20CDC96E4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182688-5FD4-46A1-B703-EAEA35441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C19B6E-8BDD-42A9-813A-2424C75B4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3F45C9-68EF-4E92-AAA3-EDED33AF8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D49B10-B2CA-46FC-A2E6-91F5D8C13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EB4E8A-3645-4098-ACBF-970E98468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A95CA6-6A6D-4C41-932B-FE7592F4C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8BE17-D345-4637-978E-1F7F32181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D90E99-7E22-4078-A01F-A28F06AF2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9D3648-BFE5-4ED7-A09D-2F4B69529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2325EF-770F-43DA-8AFB-504CAD1B0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5F4F18-D3A7-4D70-AC0D-91BFEEB40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4F1D9A-15C9-4996-A770-111705BE4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B9EF2F-E09C-403D-B86A-8FEC8ADF6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D4CB0B-A0D7-45A6-AC3F-410AFFFBF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E2297F-E6BD-4193-942F-6138606D1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F5D3EC-49AA-4704-BEF7-09AB3AB0A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1E514F-A96A-4583-B95B-5707BDDF7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50AA6-E03A-44DE-9118-A9CC1CF931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18A0B-4613-4727-8EF8-8CF6757C2F9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27A9F-7C8A-44CE-8DEF-9ACC0E0B0A5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F23B0-D83C-4147-8598-FEEA2FD513A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377FA-B11B-45CC-A21C-43C95B27B8F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B1DDD-E087-40BE-8F12-2152AA6C31C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B2064-DC49-470C-95E8-037443BA8A0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15279-FB08-4823-8A4B-5742B09AA86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B11C1-833E-46A4-8E91-819E9F0295F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8F474-AE1F-4FB9-8CC0-D0D1025F1CE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3D7DE-8397-43F3-A172-FA75CE4E929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BA6CE-5D18-49BB-8CF0-99421D3B09C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0E044-EFBB-4BDC-BD92-E0347C840C1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450C3-D17E-4EC0-A5D6-0C8A059CB74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17C9A-3C8D-485D-8AEE-AB7BE31CDCC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8A400-C2D0-4A0B-AD7C-18A1FA6AE51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A5A72-7C8D-4CB7-8DC6-114AD0B9FE1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3015A-441C-484C-AE17-9C34F3980C7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F8FBC-AC8F-46B4-A986-F1C7FBD147C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25DCD-26B6-4B7C-BA19-C005FF1EEE3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574C4-210E-4ACE-BCE9-8648BCCDEF1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39FB5-4255-4798-A26B-D4C43D87724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E7725-644F-4C81-8999-FF22E3AEAE1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A64A8-FEEB-48C4-8392-456EE1F7413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8AB2E-8A6E-4097-8059-432A2CA0FDF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A00B4-CE8A-4814-A6BC-28C0D3E9811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753E7-E76B-4E8B-ACBD-828ADADAA30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73CE5-7557-4036-88BC-17E7D6C704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98A11-74A9-4EA3-85D2-D2533E1D3DD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7FF52-9421-4CC2-8055-E5248712AA8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2DE60-ECEE-4A89-8889-20F97A746E8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6FD2E-EAAC-48EB-805A-96D9EDA602E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25FF0-936E-4095-B763-69ABEB3FBBA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81D9E-DD79-4CB3-A5C0-0ECBE8B4BB5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15569-C51F-4C33-8792-3BADBCAFDDE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9AFE1-F232-4586-AB9C-5A4DA6DDDB4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1C1A9-6BBA-43DE-8CD7-95412EB4F02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540BA-AFB8-47C7-9245-09EA24DF5B1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3D735-A6B6-4C5B-B573-94D6FFA8D67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81369-EBF8-474F-9D20-5C6DDE02501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1.png"/><Relationship Id="rId12" Type="http://schemas.openxmlformats.org/officeDocument/2006/relationships/image" Target="../media/image11.png"/><Relationship Id="rId13" Type="http://schemas.openxmlformats.org/officeDocument/2006/relationships/image" Target="../media/image11.png"/><Relationship Id="rId14" Type="http://schemas.openxmlformats.org/officeDocument/2006/relationships/image" Target="../media/image11.png"/><Relationship Id="rId15" Type="http://schemas.openxmlformats.org/officeDocument/2006/relationships/image" Target="../media/image11.png"/><Relationship Id="rId16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image" Target="../media/image10.png"/><Relationship Id="rId15" Type="http://schemas.openxmlformats.org/officeDocument/2006/relationships/image" Target="../media/image10.png"/><Relationship Id="rId16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Picture 1" descr=""/>
          <p:cNvPicPr/>
          <p:nvPr/>
        </p:nvPicPr>
        <p:blipFill>
          <a:blip r:embed="rId1"/>
          <a:stretch/>
        </p:blipFill>
        <p:spPr>
          <a:xfrm>
            <a:off x="1698480" y="3267000"/>
            <a:ext cx="5230800" cy="4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2" name="Picture 1" descr=""/>
          <p:cNvPicPr/>
          <p:nvPr/>
        </p:nvPicPr>
        <p:blipFill>
          <a:blip r:embed="rId1"/>
          <a:srcRect l="0" t="0" r="0" b="29951"/>
          <a:stretch/>
        </p:blipFill>
        <p:spPr>
          <a:xfrm>
            <a:off x="281160" y="1370160"/>
            <a:ext cx="8581680" cy="4416120"/>
          </a:xfrm>
          <a:prstGeom prst="rect">
            <a:avLst/>
          </a:prstGeom>
          <a:ln w="0">
            <a:noFill/>
          </a:ln>
        </p:spPr>
      </p:pic>
      <p:pic>
        <p:nvPicPr>
          <p:cNvPr id="923" name="Picture 4" descr=""/>
          <p:cNvPicPr/>
          <p:nvPr/>
        </p:nvPicPr>
        <p:blipFill>
          <a:blip r:embed="rId2"/>
          <a:stretch/>
        </p:blipFill>
        <p:spPr>
          <a:xfrm>
            <a:off x="1660680" y="3008160"/>
            <a:ext cx="379080" cy="32400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4" descr=""/>
          <p:cNvPicPr/>
          <p:nvPr/>
        </p:nvPicPr>
        <p:blipFill>
          <a:blip r:embed="rId3"/>
          <a:stretch/>
        </p:blipFill>
        <p:spPr>
          <a:xfrm>
            <a:off x="1778040" y="3492360"/>
            <a:ext cx="379440" cy="32400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4" descr=""/>
          <p:cNvPicPr/>
          <p:nvPr/>
        </p:nvPicPr>
        <p:blipFill>
          <a:blip r:embed="rId4"/>
          <a:stretch/>
        </p:blipFill>
        <p:spPr>
          <a:xfrm>
            <a:off x="3822840" y="3000240"/>
            <a:ext cx="379440" cy="32400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4" descr=""/>
          <p:cNvPicPr/>
          <p:nvPr/>
        </p:nvPicPr>
        <p:blipFill>
          <a:blip r:embed="rId5"/>
          <a:stretch/>
        </p:blipFill>
        <p:spPr>
          <a:xfrm>
            <a:off x="3940200" y="3483000"/>
            <a:ext cx="379440" cy="32400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4" descr=""/>
          <p:cNvPicPr/>
          <p:nvPr/>
        </p:nvPicPr>
        <p:blipFill>
          <a:blip r:embed="rId6"/>
          <a:stretch/>
        </p:blipFill>
        <p:spPr>
          <a:xfrm>
            <a:off x="5992920" y="3000240"/>
            <a:ext cx="379440" cy="324000"/>
          </a:xfrm>
          <a:prstGeom prst="rect">
            <a:avLst/>
          </a:prstGeom>
          <a:ln w="0">
            <a:noFill/>
          </a:ln>
        </p:spPr>
      </p:pic>
      <p:pic>
        <p:nvPicPr>
          <p:cNvPr id="928" name="Picture 4" descr=""/>
          <p:cNvPicPr/>
          <p:nvPr/>
        </p:nvPicPr>
        <p:blipFill>
          <a:blip r:embed="rId7"/>
          <a:stretch/>
        </p:blipFill>
        <p:spPr>
          <a:xfrm>
            <a:off x="6108840" y="3483000"/>
            <a:ext cx="379440" cy="32400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4" descr=""/>
          <p:cNvPicPr/>
          <p:nvPr/>
        </p:nvPicPr>
        <p:blipFill>
          <a:blip r:embed="rId8"/>
          <a:stretch/>
        </p:blipFill>
        <p:spPr>
          <a:xfrm>
            <a:off x="8136000" y="3000240"/>
            <a:ext cx="379440" cy="32400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4" descr=""/>
          <p:cNvPicPr/>
          <p:nvPr/>
        </p:nvPicPr>
        <p:blipFill>
          <a:blip r:embed="rId9"/>
          <a:stretch/>
        </p:blipFill>
        <p:spPr>
          <a:xfrm>
            <a:off x="8251920" y="3483000"/>
            <a:ext cx="379440" cy="324000"/>
          </a:xfrm>
          <a:prstGeom prst="rect">
            <a:avLst/>
          </a:prstGeom>
          <a:ln w="0">
            <a:noFill/>
          </a:ln>
        </p:spPr>
      </p:pic>
      <p:pic>
        <p:nvPicPr>
          <p:cNvPr id="931" name="Picture 4" descr=""/>
          <p:cNvPicPr/>
          <p:nvPr/>
        </p:nvPicPr>
        <p:blipFill>
          <a:blip r:embed="rId10"/>
          <a:stretch/>
        </p:blipFill>
        <p:spPr>
          <a:xfrm>
            <a:off x="1411200" y="4732200"/>
            <a:ext cx="409680" cy="428760"/>
          </a:xfrm>
          <a:prstGeom prst="rect">
            <a:avLst/>
          </a:prstGeom>
          <a:ln w="0">
            <a:noFill/>
          </a:ln>
        </p:spPr>
      </p:pic>
      <p:pic>
        <p:nvPicPr>
          <p:cNvPr id="932" name="Picture 4" descr=""/>
          <p:cNvPicPr/>
          <p:nvPr/>
        </p:nvPicPr>
        <p:blipFill>
          <a:blip r:embed="rId11"/>
          <a:stretch/>
        </p:blipFill>
        <p:spPr>
          <a:xfrm>
            <a:off x="4303800" y="4722840"/>
            <a:ext cx="409320" cy="428760"/>
          </a:xfrm>
          <a:prstGeom prst="rect">
            <a:avLst/>
          </a:prstGeom>
          <a:ln w="0">
            <a:noFill/>
          </a:ln>
        </p:spPr>
      </p:pic>
      <p:pic>
        <p:nvPicPr>
          <p:cNvPr id="933" name="Picture 4" descr=""/>
          <p:cNvPicPr/>
          <p:nvPr/>
        </p:nvPicPr>
        <p:blipFill>
          <a:blip r:embed="rId12"/>
          <a:stretch/>
        </p:blipFill>
        <p:spPr>
          <a:xfrm>
            <a:off x="7215120" y="4761000"/>
            <a:ext cx="409680" cy="428400"/>
          </a:xfrm>
          <a:prstGeom prst="rect">
            <a:avLst/>
          </a:prstGeom>
          <a:ln w="0">
            <a:noFill/>
          </a:ln>
        </p:spPr>
      </p:pic>
      <p:pic>
        <p:nvPicPr>
          <p:cNvPr id="934" name="Picture 4" descr=""/>
          <p:cNvPicPr/>
          <p:nvPr/>
        </p:nvPicPr>
        <p:blipFill>
          <a:blip r:embed="rId13"/>
          <a:stretch/>
        </p:blipFill>
        <p:spPr>
          <a:xfrm>
            <a:off x="1535040" y="5286240"/>
            <a:ext cx="409680" cy="428760"/>
          </a:xfrm>
          <a:prstGeom prst="rect">
            <a:avLst/>
          </a:prstGeom>
          <a:ln w="0">
            <a:noFill/>
          </a:ln>
        </p:spPr>
      </p:pic>
      <p:pic>
        <p:nvPicPr>
          <p:cNvPr id="935" name="Picture 4" descr=""/>
          <p:cNvPicPr/>
          <p:nvPr/>
        </p:nvPicPr>
        <p:blipFill>
          <a:blip r:embed="rId14"/>
          <a:stretch/>
        </p:blipFill>
        <p:spPr>
          <a:xfrm>
            <a:off x="4429080" y="5286240"/>
            <a:ext cx="409680" cy="428760"/>
          </a:xfrm>
          <a:prstGeom prst="rect">
            <a:avLst/>
          </a:prstGeom>
          <a:ln w="0">
            <a:noFill/>
          </a:ln>
        </p:spPr>
      </p:pic>
      <p:pic>
        <p:nvPicPr>
          <p:cNvPr id="936" name="Picture 4" descr=""/>
          <p:cNvPicPr/>
          <p:nvPr/>
        </p:nvPicPr>
        <p:blipFill>
          <a:blip r:embed="rId15"/>
          <a:stretch/>
        </p:blipFill>
        <p:spPr>
          <a:xfrm>
            <a:off x="7207200" y="5286240"/>
            <a:ext cx="40968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" dur="20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1" dur="20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6" dur="20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1" dur="20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6" dur="20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1" dur="20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7" name="Picture 1" descr=""/>
          <p:cNvPicPr/>
          <p:nvPr/>
        </p:nvPicPr>
        <p:blipFill>
          <a:blip r:embed="rId1"/>
          <a:srcRect l="0" t="31276" r="0" b="0"/>
          <a:stretch/>
        </p:blipFill>
        <p:spPr>
          <a:xfrm>
            <a:off x="114480" y="2500200"/>
            <a:ext cx="8915400" cy="4353120"/>
          </a:xfrm>
          <a:prstGeom prst="rect">
            <a:avLst/>
          </a:prstGeom>
          <a:ln w="0">
            <a:noFill/>
          </a:ln>
        </p:spPr>
      </p:pic>
      <p:pic>
        <p:nvPicPr>
          <p:cNvPr id="938" name="Picture 2" descr=""/>
          <p:cNvPicPr/>
          <p:nvPr/>
        </p:nvPicPr>
        <p:blipFill>
          <a:blip r:embed="rId2"/>
          <a:stretch/>
        </p:blipFill>
        <p:spPr>
          <a:xfrm>
            <a:off x="158760" y="698400"/>
            <a:ext cx="7305840" cy="180972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3" descr=""/>
          <p:cNvPicPr/>
          <p:nvPr/>
        </p:nvPicPr>
        <p:blipFill>
          <a:blip r:embed="rId3"/>
          <a:stretch/>
        </p:blipFill>
        <p:spPr>
          <a:xfrm>
            <a:off x="5643720" y="5643720"/>
            <a:ext cx="923760" cy="1143000"/>
          </a:xfrm>
          <a:prstGeom prst="rect">
            <a:avLst/>
          </a:prstGeom>
          <a:ln w="0">
            <a:noFill/>
          </a:ln>
        </p:spPr>
      </p:pic>
      <p:pic>
        <p:nvPicPr>
          <p:cNvPr id="940" name="Picture 4" descr=""/>
          <p:cNvPicPr/>
          <p:nvPr/>
        </p:nvPicPr>
        <p:blipFill>
          <a:blip r:embed="rId4"/>
          <a:stretch/>
        </p:blipFill>
        <p:spPr>
          <a:xfrm>
            <a:off x="2117880" y="1365120"/>
            <a:ext cx="379080" cy="324000"/>
          </a:xfrm>
          <a:prstGeom prst="rect">
            <a:avLst/>
          </a:prstGeom>
          <a:ln w="0">
            <a:noFill/>
          </a:ln>
        </p:spPr>
      </p:pic>
      <p:pic>
        <p:nvPicPr>
          <p:cNvPr id="941" name="Picture 4" descr=""/>
          <p:cNvPicPr/>
          <p:nvPr/>
        </p:nvPicPr>
        <p:blipFill>
          <a:blip r:embed="rId5"/>
          <a:stretch/>
        </p:blipFill>
        <p:spPr>
          <a:xfrm>
            <a:off x="3160800" y="1373040"/>
            <a:ext cx="379440" cy="324000"/>
          </a:xfrm>
          <a:prstGeom prst="rect">
            <a:avLst/>
          </a:prstGeom>
          <a:ln w="0">
            <a:noFill/>
          </a:ln>
        </p:spPr>
      </p:pic>
      <p:pic>
        <p:nvPicPr>
          <p:cNvPr id="942" name="Picture 4" descr=""/>
          <p:cNvPicPr/>
          <p:nvPr/>
        </p:nvPicPr>
        <p:blipFill>
          <a:blip r:embed="rId6"/>
          <a:stretch/>
        </p:blipFill>
        <p:spPr>
          <a:xfrm>
            <a:off x="4264200" y="1357200"/>
            <a:ext cx="379080" cy="324000"/>
          </a:xfrm>
          <a:prstGeom prst="rect">
            <a:avLst/>
          </a:prstGeom>
          <a:ln w="0">
            <a:noFill/>
          </a:ln>
        </p:spPr>
      </p:pic>
      <p:pic>
        <p:nvPicPr>
          <p:cNvPr id="943" name="Picture 4" descr=""/>
          <p:cNvPicPr/>
          <p:nvPr/>
        </p:nvPicPr>
        <p:blipFill>
          <a:blip r:embed="rId7"/>
          <a:stretch/>
        </p:blipFill>
        <p:spPr>
          <a:xfrm>
            <a:off x="5335560" y="1349280"/>
            <a:ext cx="379440" cy="324000"/>
          </a:xfrm>
          <a:prstGeom prst="rect">
            <a:avLst/>
          </a:prstGeom>
          <a:ln w="0">
            <a:noFill/>
          </a:ln>
        </p:spPr>
      </p:pic>
      <p:pic>
        <p:nvPicPr>
          <p:cNvPr id="944" name="Picture 4" descr=""/>
          <p:cNvPicPr/>
          <p:nvPr/>
        </p:nvPicPr>
        <p:blipFill>
          <a:blip r:embed="rId8"/>
          <a:stretch/>
        </p:blipFill>
        <p:spPr>
          <a:xfrm>
            <a:off x="6404040" y="1357200"/>
            <a:ext cx="379440" cy="324000"/>
          </a:xfrm>
          <a:prstGeom prst="rect">
            <a:avLst/>
          </a:prstGeom>
          <a:ln w="0">
            <a:noFill/>
          </a:ln>
        </p:spPr>
      </p:pic>
      <p:pic>
        <p:nvPicPr>
          <p:cNvPr id="945" name="Picture 4" descr=""/>
          <p:cNvPicPr/>
          <p:nvPr/>
        </p:nvPicPr>
        <p:blipFill>
          <a:blip r:embed="rId9"/>
          <a:stretch/>
        </p:blipFill>
        <p:spPr>
          <a:xfrm>
            <a:off x="2112840" y="2076480"/>
            <a:ext cx="379440" cy="324000"/>
          </a:xfrm>
          <a:prstGeom prst="rect">
            <a:avLst/>
          </a:prstGeom>
          <a:ln w="0">
            <a:noFill/>
          </a:ln>
        </p:spPr>
      </p:pic>
      <p:pic>
        <p:nvPicPr>
          <p:cNvPr id="946" name="Picture 4" descr=""/>
          <p:cNvPicPr/>
          <p:nvPr/>
        </p:nvPicPr>
        <p:blipFill>
          <a:blip r:embed="rId10"/>
          <a:stretch/>
        </p:blipFill>
        <p:spPr>
          <a:xfrm>
            <a:off x="3156120" y="2085840"/>
            <a:ext cx="379080" cy="324000"/>
          </a:xfrm>
          <a:prstGeom prst="rect">
            <a:avLst/>
          </a:prstGeom>
          <a:ln w="0">
            <a:noFill/>
          </a:ln>
        </p:spPr>
      </p:pic>
      <p:pic>
        <p:nvPicPr>
          <p:cNvPr id="947" name="Picture 4" descr=""/>
          <p:cNvPicPr/>
          <p:nvPr/>
        </p:nvPicPr>
        <p:blipFill>
          <a:blip r:embed="rId11"/>
          <a:stretch/>
        </p:blipFill>
        <p:spPr>
          <a:xfrm>
            <a:off x="4259160" y="2068560"/>
            <a:ext cx="379440" cy="323640"/>
          </a:xfrm>
          <a:prstGeom prst="rect">
            <a:avLst/>
          </a:prstGeom>
          <a:ln w="0">
            <a:noFill/>
          </a:ln>
        </p:spPr>
      </p:pic>
      <p:pic>
        <p:nvPicPr>
          <p:cNvPr id="948" name="Picture 4" descr=""/>
          <p:cNvPicPr/>
          <p:nvPr/>
        </p:nvPicPr>
        <p:blipFill>
          <a:blip r:embed="rId12"/>
          <a:stretch/>
        </p:blipFill>
        <p:spPr>
          <a:xfrm>
            <a:off x="5330880" y="2060640"/>
            <a:ext cx="379440" cy="323640"/>
          </a:xfrm>
          <a:prstGeom prst="rect">
            <a:avLst/>
          </a:prstGeom>
          <a:ln w="0">
            <a:noFill/>
          </a:ln>
        </p:spPr>
      </p:pic>
      <p:pic>
        <p:nvPicPr>
          <p:cNvPr id="949" name="Picture 4" descr=""/>
          <p:cNvPicPr/>
          <p:nvPr/>
        </p:nvPicPr>
        <p:blipFill>
          <a:blip r:embed="rId13"/>
          <a:stretch/>
        </p:blipFill>
        <p:spPr>
          <a:xfrm>
            <a:off x="6399360" y="2068560"/>
            <a:ext cx="379440" cy="323640"/>
          </a:xfrm>
          <a:prstGeom prst="rect">
            <a:avLst/>
          </a:prstGeom>
          <a:ln w="0">
            <a:noFill/>
          </a:ln>
        </p:spPr>
      </p:pic>
      <p:pic>
        <p:nvPicPr>
          <p:cNvPr id="950" name="Picture 4" descr=""/>
          <p:cNvPicPr/>
          <p:nvPr/>
        </p:nvPicPr>
        <p:blipFill>
          <a:blip r:embed="rId14"/>
          <a:stretch/>
        </p:blipFill>
        <p:spPr>
          <a:xfrm>
            <a:off x="571680" y="3786120"/>
            <a:ext cx="1928520" cy="324000"/>
          </a:xfrm>
          <a:prstGeom prst="rect">
            <a:avLst/>
          </a:prstGeom>
          <a:ln w="0">
            <a:noFill/>
          </a:ln>
        </p:spPr>
      </p:pic>
      <p:pic>
        <p:nvPicPr>
          <p:cNvPr id="951" name="Picture 4" descr=""/>
          <p:cNvPicPr/>
          <p:nvPr/>
        </p:nvPicPr>
        <p:blipFill>
          <a:blip r:embed="rId15"/>
          <a:stretch/>
        </p:blipFill>
        <p:spPr>
          <a:xfrm>
            <a:off x="500040" y="5715000"/>
            <a:ext cx="2071800" cy="3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8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3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8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3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8" dur="5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3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8" dur="5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3" dur="5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8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3" dur="5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8" dur="5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3" dur="5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2" name="Picture 1" descr=""/>
          <p:cNvPicPr/>
          <p:nvPr/>
        </p:nvPicPr>
        <p:blipFill>
          <a:blip r:embed="rId1"/>
          <a:stretch/>
        </p:blipFill>
        <p:spPr>
          <a:xfrm>
            <a:off x="1542960" y="2928960"/>
            <a:ext cx="6058080" cy="1000080"/>
          </a:xfrm>
          <a:prstGeom prst="rect">
            <a:avLst/>
          </a:prstGeom>
          <a:ln w="0">
            <a:noFill/>
          </a:ln>
        </p:spPr>
      </p:pic>
      <p:pic>
        <p:nvPicPr>
          <p:cNvPr id="953" name="Picture 4" descr=""/>
          <p:cNvPicPr/>
          <p:nvPr/>
        </p:nvPicPr>
        <p:blipFill>
          <a:blip r:embed="rId2"/>
          <a:stretch/>
        </p:blipFill>
        <p:spPr>
          <a:xfrm>
            <a:off x="2571840" y="3571920"/>
            <a:ext cx="242640" cy="287280"/>
          </a:xfrm>
          <a:prstGeom prst="rect">
            <a:avLst/>
          </a:prstGeom>
          <a:ln w="0">
            <a:noFill/>
          </a:ln>
        </p:spPr>
      </p:pic>
      <p:pic>
        <p:nvPicPr>
          <p:cNvPr id="954" name="Picture 4" descr=""/>
          <p:cNvPicPr/>
          <p:nvPr/>
        </p:nvPicPr>
        <p:blipFill>
          <a:blip r:embed="rId3"/>
          <a:stretch/>
        </p:blipFill>
        <p:spPr>
          <a:xfrm>
            <a:off x="3714840" y="3570120"/>
            <a:ext cx="242640" cy="287640"/>
          </a:xfrm>
          <a:prstGeom prst="rect">
            <a:avLst/>
          </a:prstGeom>
          <a:ln w="0">
            <a:noFill/>
          </a:ln>
        </p:spPr>
      </p:pic>
      <p:pic>
        <p:nvPicPr>
          <p:cNvPr id="955" name="Picture 4" descr=""/>
          <p:cNvPicPr/>
          <p:nvPr/>
        </p:nvPicPr>
        <p:blipFill>
          <a:blip r:embed="rId4"/>
          <a:stretch/>
        </p:blipFill>
        <p:spPr>
          <a:xfrm>
            <a:off x="6135840" y="3564000"/>
            <a:ext cx="241200" cy="287280"/>
          </a:xfrm>
          <a:prstGeom prst="rect">
            <a:avLst/>
          </a:prstGeom>
          <a:ln w="0">
            <a:noFill/>
          </a:ln>
        </p:spPr>
      </p:pic>
      <p:pic>
        <p:nvPicPr>
          <p:cNvPr id="956" name="Picture 4" descr=""/>
          <p:cNvPicPr/>
          <p:nvPr/>
        </p:nvPicPr>
        <p:blipFill>
          <a:blip r:embed="rId5"/>
          <a:stretch/>
        </p:blipFill>
        <p:spPr>
          <a:xfrm>
            <a:off x="7284960" y="3560760"/>
            <a:ext cx="241200" cy="2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0" dur="5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5" dur="5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0" dur="5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5" dur="5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17T07:19:27Z</dcterms:modified>
  <cp:revision>46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